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02F-B262-45CF-A87D-F67B5306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27E-E4DA-4EA4-BA45-9DD0B548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3E4-970C-4A34-9942-EC6281A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808-18D4-4261-ADF9-E6E861A0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D70-A675-4807-B017-77EB0BBA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27D-459C-4FCF-9E8C-C2C99AE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7FC-8A62-456E-BDC5-4200C295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B49-4A79-42B1-A167-A5F9D2F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51C-6055-4251-BDA0-6F3FBF6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A9B-DEE6-4A47-BB3B-13912B0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56E-8B1E-4EE9-B2C5-4BC82B0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663-5EC8-4800-AECB-2D35DD1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8F22-F86C-409F-B9A7-B6AAC8D8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SPECTOS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ÍSICOS DO JAP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06436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elevo japonês caracteriza-se pelo domínio de dobramentos modernos,que ocupam a maior parte do país e são marcados por uma intensa atividade vulcânic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5516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18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400" spc="-1" strike="noStrike">
                <a:solidFill>
                  <a:srgbClr val="ff0000"/>
                </a:solidFill>
                <a:latin typeface="Comic Sans MS"/>
              </a:rPr>
              <a:t>HIDROGRAFIA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drografia do Japão é composta por rios de curta extensão e de curso muito acidentado. Os principais rios japoneses são: Ishikari, Shinano e T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Century Gothic"/>
              </a:rPr>
              <a:t>Fim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apã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Vis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po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Satél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70200" y="404640"/>
            <a:ext cx="5473800" cy="645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runo de Azeved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na Caroline Oliveira Gome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renda Maria Pereira de Mato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rcos Kelvin Grande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sa Nathalia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35280" y="450828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 ano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Comic Sans MS"/>
              </a:rPr>
              <a:t>CLIM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052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ã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regido pela massa de ar mais quente do mundo: a massa de ar do Pacífico n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200720" cy="436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er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Japão sofre influência das mais frias massas de ar do mundo: a massa de ar da Sibéri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72360" cy="508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nte a estação d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Japão é embelezado pelas cerejeiras em flor, a flor nacional do Jap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351640" cy="501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o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é a estação ideal para agradáveis excursões, com seu ar saudável, céu sereno e ar fresco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20000" cy="515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VEGETAÇÃ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os tipos de vegetação crescem nas várias regiões do país, devido ao fato de seu território incluir regiões pertencentes às zonas subtropicais, temperada e fria, e possuir água em abund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RELEV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0:57:56Z</dcterms:created>
  <dc:creator>ESCOLA FILINTO</dc:creator>
  <dc:description/>
  <dc:language>en-US</dc:language>
  <cp:lastModifiedBy>ESCOLA FILINTO</cp:lastModifiedBy>
  <dcterms:modified xsi:type="dcterms:W3CDTF">2009-10-29T16:11:10Z</dcterms:modified>
  <cp:revision>3</cp:revision>
  <dc:subject/>
  <dc:title>ASPECTOS FÍSICOS DO JAPÃO</dc:title>
</cp:coreProperties>
</file>